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0158E-9237-4B84-90A1-C40AE2B20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F7DBC-13C1-4DF7-9DE4-9045D4C2B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8510E-930D-4B72-8D02-7D25C4CCC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70369-C7B5-4539-AEA0-DC2FC6341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E8C27-F2CD-4A42-8F0B-BFF675531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6E898-384A-4AF9-954C-6382D2628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0B003-2C61-44F9-A76F-2C7B5257D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12AF5-FD03-4993-8525-84690818F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C52BB-8B0B-43C9-93C7-16D961D6D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B2A8D-EA7D-445A-A8BE-897CAF83D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AAE76-E98C-43CE-9BD5-49A6F15BD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BC391-B78E-41FE-BFDE-64AC52B51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9DDB2-53DD-4BB3-AC7B-629BD09AA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C6BA8-7024-4290-9A46-4AF498FC7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ACB99-4491-428D-8D05-6B2DB0237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105CB-FF2B-49BD-B43B-774DAE4F2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D834A-1043-45E8-850C-5A0FC1086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2AD78-0479-4550-AD30-2CE835DA8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F732F-4515-4DAA-8118-72E4BA7AC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C31E2-D7FA-4654-AE0F-C6E601421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0146F-0356-472C-A156-F7DD055FC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175C1-AABC-41C1-AF5B-BB2C86727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81241-74C6-4B4D-B1D1-6E5438D22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C9B72-28E4-4BD9-83CE-E34881D12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21BDC-FFEE-47BA-9A18-D4D392666A9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21886-15D2-4629-B054-8384F408946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N System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llis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 baseband bus, collision produces much higher signal voltage tha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ision detected if cable signal greater than single statio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attenuated over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distance to 500m (10Base5) or 200m (10Base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isted pair (star-topology) activity on more than one port is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 collision presenc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.3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0" t="0" r="0" b="18251"/>
          <a:stretch/>
        </p:blipFill>
        <p:spPr>
          <a:xfrm>
            <a:off x="457200" y="2019240"/>
            <a:ext cx="8153280" cy="23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Mbps Specification (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data rate&gt;&lt;Signaling method&gt;&lt;Max segment length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F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50nm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/Of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olog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d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0Mbps (Fast 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F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S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Cat 5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optical fib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 pair, cat 3,4,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B5B,NRZ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B6T,NRZ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9379"/>
          <a:stretch/>
        </p:blipFill>
        <p:spPr>
          <a:xfrm>
            <a:off x="1447920" y="1371600"/>
            <a:ext cx="6248160" cy="54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4096 bit-times long (512 for 10/10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bur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S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wavelength, multi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L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 wavelength, Multi or single 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C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pper jumpers &lt;25m, shielded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 pairs, cat 5 UT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- 8B/10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(802.5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 frame (token) circulates when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waits for 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ges one bit in token to make it SOF for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nd rest of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kes round trip and is absorbed by transmitting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then inserts new token when transmission has finished and leading edge of returning frame arriv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light loads, some in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round rob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10579"/>
          <a:stretch/>
        </p:blipFill>
        <p:spPr>
          <a:xfrm>
            <a:off x="3322800" y="0"/>
            <a:ext cx="5887800" cy="679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MAC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9536"/>
          <a:stretch/>
        </p:blipFill>
        <p:spPr>
          <a:xfrm>
            <a:off x="152280" y="1371600"/>
            <a:ext cx="876312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thernet (CSAM/C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s Sense Multiple Access with Collis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erox - Eth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orit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7199"/>
          <a:stretch/>
        </p:blipFill>
        <p:spPr>
          <a:xfrm>
            <a:off x="2514600" y="380880"/>
            <a:ext cx="6629400" cy="623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dicated Token 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s as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point to poin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ntrator acts as frame level repe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oken pa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5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UTP,STP,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Differential Manche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Fra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55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Contro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T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1Gbit in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and MAN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9401"/>
          <a:stretch/>
        </p:blipFill>
        <p:spPr>
          <a:xfrm>
            <a:off x="457200" y="1905120"/>
            <a:ext cx="815328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802.5 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seizes token by aborting token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token captured, one or more data frames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token released as soon as transmission finished (early token release in 802.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7721"/>
          <a:stretch/>
        </p:blipFill>
        <p:spPr>
          <a:xfrm>
            <a:off x="3971880" y="385920"/>
            <a:ext cx="5019840" cy="63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B/5B/NRZ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LT-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k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Gene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/CD and toke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 to host and client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rate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D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ckb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performance work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throughput and real time support for multimedia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ird Generation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multiple guaranteed class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ve video may nee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can use background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ble 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aggregate and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ilitate LAN/WAN internetwo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802.3 Medium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ccess medium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content for time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s and virtual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onfigured or switc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teway to ATM W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ATM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TM switch or local network of ATM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group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ed directly to ATM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x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TM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789"/>
          <a:stretch/>
        </p:blipFill>
        <p:spPr>
          <a:xfrm>
            <a:off x="457200" y="1371600"/>
            <a:ext cx="8153280" cy="50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 HU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1135" t="11197" r="1418" b="10948"/>
          <a:stretch/>
        </p:blipFill>
        <p:spPr>
          <a:xfrm>
            <a:off x="457200" y="1343160"/>
            <a:ext cx="8153280" cy="48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tibil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end system on ATM and end system on legacy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s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different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- Backgrou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/O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point to point or multipoint comm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ware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 moved from source buffer to destiation 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ed access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ftware based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, error detection &amp;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of both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ype qualifiers for routing frame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level constructs associated with I/O 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interface specifications to support existing I/O architect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multiplexing between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er to peer connectiv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ing to other connection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-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elements - the network or fab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 across point to point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9158"/>
          <a:stretch/>
        </p:blipFill>
        <p:spPr>
          <a:xfrm>
            <a:off x="457200" y="1828800"/>
            <a:ext cx="8153280" cy="44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0 Physical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cal fiber for long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axial cable for high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P for lower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1 Transmiss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B/10B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2 Fram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ing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s and exchanges (logical grouping of fram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3 Comm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multica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4 Map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of channel and network services onto fiber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IEEE 802, ATM, IP,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station has frame, it s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listens (for max round trip time)plus small incr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CK, fine.  If no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after repeated transmissions, give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heck sequence (as in HDL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frame OK and address matches receiver, send 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y be damaged by noise or by another station transmitting at the same time (collis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overlap of frames causes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18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service set (cel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stations using same MAC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eting to access shar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sol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nnect to backbone via access point (bridg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ded service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or more BSS connected by distribute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as single logic LAN to LLC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ary or moves within direct communication range of single B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es between BSS within single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a BSS in one ESS to a BSS in another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ruption of service lik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- Physica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an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velength 850-950n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7 chann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ping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wireless foundation MAC (DWF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coordination function (D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llision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coordination function (P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lling of central ma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11 MAC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5674"/>
          <a:stretch/>
        </p:blipFill>
        <p:spPr>
          <a:xfrm>
            <a:off x="1066680" y="1371600"/>
            <a:ext cx="624852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Ethernet, Token ring, FDDI, ATM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otted 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in uniform slots equal to frame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central clock (or other sync mechanis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begins at slot bound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s either miss or overlap tot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utilization 37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time is much less than 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know that a transmission has started almost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listen for clear medium (carrier sens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wo stations start at the same instant,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reasonable time (round trip  plus ACK conten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ACK then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depends on propagation time (medium length) and fram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nger frame and shorter propagation gives better uti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f Bus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s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 then transmit immedi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are waiting,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 CSMA, collision occupies medium for duration of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s listen whilst transmit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, then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llision detected, jam then ceas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jam, wait random time then start ag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 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8798"/>
          <a:stretch/>
        </p:blipFill>
        <p:spPr>
          <a:xfrm>
            <a:off x="3038400" y="252360"/>
            <a:ext cx="557208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8T08:10:31Z</dcterms:created>
  <dc:creator>Adrian &amp; Wendy</dc:creator>
  <dc:description/>
  <dc:language>en-US</dc:language>
  <cp:lastModifiedBy>Adrian &amp; Wendy</cp:lastModifiedBy>
  <dcterms:modified xsi:type="dcterms:W3CDTF">1999-10-18T12:47:38Z</dcterms:modified>
  <cp:revision>42</cp:revision>
  <dc:subject/>
  <dc:title>William Stallings Data and Computer Communications</dc:title>
</cp:coreProperties>
</file>